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675-5AB2-4077-9B96-DDC6D82A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7EB-5C26-43F3-A3E9-B70DD8D7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DC1-2617-44E3-B509-921FA158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FA1-47B5-4E7C-A11B-25741E9F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D507-D759-4A12-BB01-72ABA89E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78D8-5E26-4275-B885-8FB4FD32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90CA-AF16-4D9B-B614-97C13423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383B-499E-4A3A-BF9A-F142ECAF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754-398E-43C0-97CB-BE2DE60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56C1-602C-4D91-9A47-6A715EA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BEC8-6743-4B23-8DC6-629F3FB0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E81-B84F-44BD-AAA2-C9DA1CE7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6E9-E683-4115-BD97-4B060E2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C717-82FB-4C88-969C-2A013F7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A5C0-240C-4E9A-945A-706AACD9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357A-8678-4746-A8EF-2DABA2E4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4727-6818-48AE-B8A4-79B827F7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BF3-EED7-4D0C-9F1D-13F9AF21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A63-D041-4842-8A51-22AE79FF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03B-843B-4F75-BE7B-2A4505FB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E87-9198-4CF7-A9BA-2DB5A5C6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2D3-F156-42F0-817F-05B32B6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496-A578-4987-94EC-3BA27B8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167-4200-4D0F-AC8A-087CDB0D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E524-C6B0-4950-8135-B90FCEA61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DAD-18AF-4449-8E3E-C60827634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4bc40"/>
                </a:solidFill>
                <a:latin typeface="Arial"/>
              </a:rPr>
              <a:t>Jurje Diana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-Raluca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m 17 ani,sunt elevă la liceu teoretic “ION AGÂRBICEANU”,în clasa a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“D”. Îmi place foarte mult să pictez şi să câ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30:58Z</dcterms:created>
  <dc:creator> </dc:creator>
  <dc:description/>
  <dc:language>en-US</dc:language>
  <cp:lastModifiedBy> </cp:lastModifiedBy>
  <dcterms:modified xsi:type="dcterms:W3CDTF">2011-09-23T09:57:39Z</dcterms:modified>
  <cp:revision>3</cp:revision>
  <dc:subject/>
  <dc:title>Jurje Diana-Raluca</dc:title>
</cp:coreProperties>
</file>